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508-00F9-4F2A-B724-FB8F3C41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4C3-355A-4621-B17C-7F73C600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8F9-2177-4120-AFF2-833163E4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D20-8CB8-49EF-B11D-684CA9B3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949-EF62-4FCD-B5F0-45DF7F65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D8B-C9D5-4370-90E4-D0D187DC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B0C-1817-4427-954F-FD00C7C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F29-AE9E-423B-9464-75E3711B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4F6-1134-481F-96A0-2F32498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7A6-492B-4066-8921-A4AC5447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A42-5BF7-4D05-86AE-9D57CBD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1D0-6325-458E-B21D-E36E19A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B33A-154D-40C7-9431-EBDA39849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Eras Bold ITC"/>
              </a:rPr>
              <a:t>FIRE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5146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ras Bold ITC"/>
              </a:rPr>
              <a:t>How do firefighters use math in fighting f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ras Bold ITC"/>
              </a:rPr>
              <a:t>by Dia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each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width of building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ength of fire escape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3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9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fire escape is about 33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65752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586728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 discovered these math skills which fire fighters use in other situ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a an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p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ga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stical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17844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6400800"/>
            <a:ext cx="2286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ertification of Training and Education Program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nnessee Department of St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Mar 1999. Commission on Fire Fighting. 17 Feb 2008 &lt;http://www.state.tn.us/sos/rules/0360/0360-02-01.pdf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FIRE!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imeTime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Ed. David A. Dockterman. Watertown, MA: Tom Snyder Productions, 199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i, T. L.. "Firefighting occupation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XP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7. 10 Feb 2008 &lt;http://www.xpmath.com/careers/jobsresult.php?groupID=3&amp;jobID=9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ictures collect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lickArt 400,0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2. Riverdeep Interactive Learning Limited, and its licen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 our fire fighting simulation, we used these math skil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6019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s (using basic alge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ments an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447840"/>
            <a:ext cx="1981080" cy="641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981440" cy="641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67368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=(length)(width)=(40)(30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00; so the horizontal factor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factor = 50(2)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+ horizontal = 100 + 50 = 150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609480" y="2590920"/>
            <a:ext cx="403884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5334120"/>
            <a:ext cx="510552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150 feet of attack line required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09760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 = size of nozzle tip in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 = gallons per minute from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00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1 inch nozzle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1 inch nozzle tip needed.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76920" y="1752480"/>
          <a:ext cx="3136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136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952880" y="518148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attack line) = (.1)(150) = 15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attack line = 15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6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71500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supply line) = (.04)(100) = 4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supply line = 4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386160" cy="403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1992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r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utes remaining in tank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tal breaths in tank – Breaths alread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th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4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baseline="-26000">
                <a:solidFill>
                  <a:srgbClr val="ffff00"/>
                </a:solidFill>
                <a:latin typeface="Arial"/>
              </a:rPr>
              <a:t>=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86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Rasheed has about 6.9 minutes left u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rden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breathing conditions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0890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62720" y="289548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(length of bldg.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(length of stairs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4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16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inside stairs is about 42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42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943600"/>
            <a:ext cx="32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eight where ladder will touch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distance from base of ladder to base of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(length of ladder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6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2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6 = 5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≈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**The distance from the base of the building to where the ladder will touch the building is 23 feet.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286000" cy="350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5880" y="571500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3:11:14Z</dcterms:created>
  <dc:creator>Greenville Schools</dc:creator>
  <dc:description/>
  <dc:language>en-US</dc:language>
  <cp:lastModifiedBy>Greenville Schools</cp:lastModifiedBy>
  <dcterms:modified xsi:type="dcterms:W3CDTF">2008-02-19T01:16:04Z</dcterms:modified>
  <cp:revision>39</cp:revision>
  <dc:subject/>
  <dc:title>Slide 1</dc:title>
</cp:coreProperties>
</file>